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6DA1C-4B2E-4FCA-98EB-38BB7661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D4AA-890B-45AB-B21D-94DB5B65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EC0A4-C402-4C3E-8A4F-A6163BBD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2486-5E87-41F7-B4E2-C144F69E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8E62-5CC4-431F-96C0-51B9DEEB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5203-6612-4789-A77B-492E2509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AF5A-E784-45D9-B5E9-2CBBDECA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1CE6-4DA3-433B-A2CD-E4E75591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543B-E37B-4435-B4CC-4510466D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9710-64D2-4121-87C5-DC9A4B27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5E95-2EE6-4C8E-8A8D-E7C77B2A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6720-D32E-4FE5-BCCA-9E8586B0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8070-8E22-4DC6-9711-69D85294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A38F-AFF5-4DB5-AC67-C448DABE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07F7-4635-43E3-86D9-E24BE99C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F8B3-453B-462F-A949-86E279E2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818A-312D-473D-9554-FB9D4194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C18EB-FEF8-4865-8C42-C220A418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149D-6A02-4C27-8219-C3503EF8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4E14A-6E11-41AD-A1C2-C85CE3B1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E854-7729-4D77-B3B0-6584D7C0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C439-F63F-40F0-A972-47EDAB31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A5A6E-BBAF-44B3-833C-5CBB7497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A2036-20AC-4AEB-95C0-7FD37F49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D501-E336-425A-84B8-8A8DF93EBA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7D64-59A6-4A74-A31B-52C2D458BDFC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FAE7-60A5-43B3-A579-47F64256B47B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08DF-CF0F-44F8-B083-F9B7D8E1F0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3800" y="2133720"/>
            <a:ext cx="588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Searching Encycloped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16840" y="4371840"/>
            <a:ext cx="1890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JS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.Duk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C31C3-C883-420F-B0A0-D4FADF80D7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8EE1A8-3BDB-47B2-ACBE-68087ED88B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0" y="5331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Encyclopedi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 reference source containing information on a variety of topics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1380960" cy="1768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43800" y="3657600"/>
            <a:ext cx="1374840" cy="1812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781680" y="533520"/>
            <a:ext cx="1384560" cy="1197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28600" y="4038480"/>
            <a:ext cx="3505320" cy="1660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24280" y="2362320"/>
            <a:ext cx="3657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bject encyclop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ing on a particular discipline such as science or his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286000"/>
            <a:ext cx="36576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neral encycloped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basic information on all top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in many volu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142560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5F94E-0B69-4D0F-9F47-9202F3B79C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0AF75D-9759-4096-8A8A-DB68204B5F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How are information materials in encyclopedias organiz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ics are usually arranged i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lphabetical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encyclopedias are arrange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y su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encyclopedias have a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e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the 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yclopedias containing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re then one volu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ve a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ex at the b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last volume in the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ject encycloped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ually have a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ents pag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glo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26F9-D6B7-42C4-A0D6-7C3773606C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2D7B08-CA98-4CFA-A9D0-F2E7ABD7B4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Examp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61792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2931840" cy="3962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96320" y="91440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ubject encyclop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2797200" cy="3733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095880" y="1219320"/>
            <a:ext cx="2813040" cy="376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152F6-8CAE-480F-85F3-70AF1DAEEE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74382D-EE57-4B37-85CB-FD7840C918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How do we search encyclopedia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wsing through p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1ADB-A101-4E78-8D65-F74D4F0DE0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342CB7-5678-4CC0-8CF5-2F4D3C94E8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1:47:51Z</dcterms:created>
  <dc:creator>Zvjezdana Dukic</dc:creator>
  <dc:description/>
  <dc:language>en-US</dc:language>
  <cp:lastModifiedBy>Dana</cp:lastModifiedBy>
  <dcterms:modified xsi:type="dcterms:W3CDTF">2007-03-26T01:33:27Z</dcterms:modified>
  <cp:revision>71</cp:revision>
  <dc:subject/>
  <dc:title>Printed Information Resources</dc:title>
</cp:coreProperties>
</file>